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1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2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10.xml"/><Relationship Id="rId8" Type="http://schemas.openxmlformats.org/officeDocument/2006/relationships/slide" Target="slide9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kali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91360" y="54936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i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101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98" idx="3"/>
            <a:endCxn id="103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ranslo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4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Zufuhr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sscheidung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den Harntrak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4520" y="549360"/>
            <a:ext cx="72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i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scheidung über den Harntrakt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absatz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ausscheidung gestör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bstruktion der ableitenden 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(vollständig/partiell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ex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9" idx="3"/>
            <a:endCxn id="16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hyperplas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ostatatumor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uma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4520" y="549360"/>
            <a:ext cx="72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i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scheidung über den Harntrakt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absatz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ausscheidung gestör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Trauma der ableitenden 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4" idx="3"/>
            <a:endCxn id="16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arnblasenruptu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briss der Ureter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iumreten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9" idx="3"/>
            <a:endCxn id="171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72" name=""/>
          <p:cNvCxnSpPr>
            <a:stCxn id="169" idx="3"/>
            <a:endCxn id="173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renokortizism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alium-spare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iuretik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10600" y="549360"/>
            <a:ext cx="73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i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scheidung über den Harntrakt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Kaliumreten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7" idx="3"/>
            <a:endCxn id="178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ufuhr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u ho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liumgehal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 der Infus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89200" y="549360"/>
            <a:ext cx="27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i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Zufuhr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nslo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Freisetzung a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den Zelle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fnahm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die Zell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3"/>
            <a:endCxn id="18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85" name=""/>
          <p:cNvCxnSpPr>
            <a:stCxn id="181" idx="3"/>
            <a:endCxn id="18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955440" y="549360"/>
            <a:ext cx="32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er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Translo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isetzung a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n Zelle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n viv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i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vitr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8" idx="3"/>
            <a:endCxn id="189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2" name=""/>
          <p:cNvCxnSpPr>
            <a:stCxn id="188" idx="3"/>
            <a:endCxn id="190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93" name=""/>
          <p:cNvSpPr/>
          <p:nvPr/>
        </p:nvSpPr>
        <p:spPr>
          <a:xfrm>
            <a:off x="1045800" y="54936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er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Translok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Freisetzung aus den Zellen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hift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 ge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</a:t>
            </a:r>
            <a:r>
              <a:rPr b="0" lang="de-DE" sz="1800" spc="-1" strike="noStrike" u="sng" baseline="30000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+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Gewebe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3"/>
            <a:endCxn id="196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99" name=""/>
          <p:cNvCxnSpPr>
            <a:stCxn id="195" idx="3"/>
            <a:endCxn id="197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00" name=""/>
          <p:cNvSpPr/>
          <p:nvPr/>
        </p:nvSpPr>
        <p:spPr>
          <a:xfrm>
            <a:off x="1083960" y="549360"/>
            <a:ext cx="73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er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Translok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Freisetzung aus den Zelle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in viv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9920" y="639684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Prot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hift ge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2880" y="549360"/>
            <a:ext cx="75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ranslok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reisetzung aus den Zelle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 vivo</a:t>
            </a:r>
            <a:r>
              <a:rPr b="1" i="1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Shift gegen H</a:t>
            </a:r>
            <a:r>
              <a:rPr b="1" lang="de-DE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3" idx="3"/>
            <a:endCxn id="20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z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920" y="639684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Prot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webe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82880" y="549360"/>
            <a:ext cx="75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Translokation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Freisetzung aus den Zellen ↑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in vivo</a:t>
            </a:r>
            <a:r>
              <a:rPr b="1" i="1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Gewebezer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9" idx="3"/>
            <a:endCxn id="212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Reperfusionssyndr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umorly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3"/>
            <a:endCxn id="216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vitr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eisetzung au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t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. a. Thrombozyte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85600" y="549360"/>
            <a:ext cx="778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Translokation &gt; Freisetzung aus den Zellen ↑ &gt; </a:t>
            </a:r>
            <a:r>
              <a:rPr b="1" i="1" lang="de-DE" sz="1800" spc="-1" strike="noStrike">
                <a:solidFill>
                  <a:srgbClr val="333399"/>
                </a:solidFill>
                <a:latin typeface="Arial"/>
              </a:rPr>
              <a:t>in vitr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3800" y="63968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scheidung ü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n Harntrak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absatz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liumreten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7" idx="3"/>
            <a:endCxn id="108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1" name=""/>
          <p:cNvCxnSpPr>
            <a:stCxn id="107" idx="3"/>
            <a:endCxn id="109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1033200" y="549360"/>
            <a:ext cx="54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erkali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sscheidung über den Harntrak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21" idx="3"/>
            <a:endCxn id="22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nahme i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e Zell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uli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5200" y="549360"/>
            <a:ext cx="64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er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Translokation &gt; Aufnahme in die Zelle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uli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3040" y="549360"/>
            <a:ext cx="82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yperkaliämie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Translokation &gt; Aufnahme in die Zellen ↓ &gt; Insulin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5" idx="3"/>
            <a:endCxn id="228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betes mellitu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absatz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arnproduktio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arnauschei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4" idx="3"/>
            <a:endCxn id="11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8" name=""/>
          <p:cNvCxnSpPr>
            <a:stCxn id="114" idx="3"/>
            <a:endCxn id="11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1065240" y="549360"/>
            <a:ext cx="70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yperkali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usscheidung über den Harntrakt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absatz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22" idx="3"/>
            <a:endCxn id="123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produktio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ur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Nierenversa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4520" y="549360"/>
            <a:ext cx="72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erkali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usscheidung über den Harntrakt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arnabsatz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arnproduktion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urisch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erenversa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4520" y="549360"/>
            <a:ext cx="72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i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scheidung über den Harntrakt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absatz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produktion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nurisches Nierenversag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3"/>
            <a:endCxn id="12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sch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eptospir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fnahme von Toxin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z. B. Ethylenglykol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Rosinen, Weintrauben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erminales Stadium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hronischen Niereninsuffizienz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ausschei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4520" y="549360"/>
            <a:ext cx="72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i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scheidung über den Harntrakt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absatz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ausscheidung gestör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(vollständig/partiel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Trauma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2" idx="3"/>
            <a:endCxn id="134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7" name=""/>
          <p:cNvCxnSpPr>
            <a:stCxn id="132" idx="3"/>
            <a:endCxn id="13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leiten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vollständig/partiel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4520" y="549360"/>
            <a:ext cx="72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i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scheidung über den Harntrakt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absatz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ausscheidung gestör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bstruktion der ableitenden 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(vollständig/partiel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9" idx="3"/>
            <a:endCxn id="142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3" name=""/>
          <p:cNvCxnSpPr>
            <a:stCxn id="139" idx="3"/>
            <a:endCxn id="144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x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9" idx="3"/>
            <a:endCxn id="145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intramur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in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4520" y="549360"/>
            <a:ext cx="72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i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scheidung über den Harntrakt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absatz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ausscheidung gestör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bstruktion der ableitenden 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(vollständig/partiell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intralumin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8" idx="3"/>
            <a:endCxn id="15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rolithias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ntzündungspropf (FLUTD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520" y="639684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LUTD = Feline-Lower-Urinary-Tract-Dise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mur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4520" y="549360"/>
            <a:ext cx="72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kali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usscheidung über den Harntrakt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arnabsatz ↓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arnausscheidung gestör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Obstruktion der ableitenden Harn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(vollständig/partiell)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intramur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4" idx="3"/>
            <a:endCxn id="15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retr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pasmus der Urethra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6T16:15:17Z</dcterms:modified>
  <cp:revision>333</cp:revision>
  <dc:subject/>
  <dc:title>Vorstellung einer Neuheit</dc:title>
</cp:coreProperties>
</file>